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044D-E68F-4468-962D-30A3397CD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2E14-4193-4CC1-90B8-BC391A8479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is parted, and complimentary piece of mRNA is pro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icil is used instead of thym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AE0B-0FFD-4D36-86DF-32462DFC44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F69-E9D1-456B-92AC-9AA95F0DE3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1630-A9BE-4E24-B8A0-1A9520A5AB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bination of those base pairs determines what function the cell will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twisted zippper and named…a double hel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hosphat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oxyribose sugar – 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de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ytoc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y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etc)phosph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oxyribose sugar – 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91E7-17A3-4E71-AC52-24113BCDA7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3DD-A707-49DD-BA41-C7D8B89D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302-6AAF-492B-A0B6-1CD4AD4B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D79-0AD6-448F-8034-964E9B35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F48-1318-49BF-8E8B-08E3CFC6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0AF6-C498-44EA-A5CA-CEC27258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0193-24EE-44D5-8F23-C7111866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0947-3FE4-4DF8-A4B9-A1CA350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9268-759D-49C4-ABFF-49FCD8EC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DFA2-745A-4828-8147-7961EE0B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4474-41DB-4392-AD2B-871CDDD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1069-30C1-4269-B44E-C767B0D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810-CC36-47C7-998C-A6EC2421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5D8-9CE1-48F5-92B5-A199C36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68D-F9A4-4DF2-A126-288EDC1E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31EE-5BC9-4F9C-821F-05D2EF6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765C-5B64-450C-9D9D-2B0B0294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B57B-7788-4E54-BF66-A433E19C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1FB-C8E0-446B-9BFC-C71907A9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B19-CA01-4E2B-BB6F-0EA1130D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704-CB07-43BF-8FC0-48551175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BAE-FC6C-49B8-B564-026BFEA8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363-A85F-4B3E-899D-D02DCE4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77A-463E-4330-A14C-EDCE60B4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5BE-7FA6-4AB9-BA90-99C72F3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3D7-52EA-4A46-A676-D8D73668C2BB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806F-FF80-4469-87B4-721C53E81F2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5FD-795B-4696-B7F9-2F0C7A692D6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31D-BB3D-4469-BD1A-D7045BE4D9C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Biology/Cracking%20the%20Code%20of%20Life.docx" TargetMode="External"/><Relationship Id="rId3" Type="http://schemas.openxmlformats.org/officeDocument/2006/relationships/hyperlink" Target="file:///Biology/Protein%20Synthesis%20and%20Words.docx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. Identical twins are always the same gend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.  Males and females have all of the same chromosom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. A female that is not color blind can have color blind childre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. A man with brown eyes can father a child with blue ey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. A persons blood type is determined by more than two gene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. Mendel studied and manipulated pea plants in order to understand genetic inheritance, and phenotyp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. A persons phenotype is as a direct result of their phenotyp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. All  people carry their mothers mitochondrial (mitochondria) D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. If a person develops cancer due to overexposure to sunlight their  children are likely to be born with cancer causing genes (DNA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Half of a persons genes come from each of their parent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 A person can only pass on either the genes they received from their Mother, or the genes they received from their Fath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.All living things have genetic material that they pass to their “offspring”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3. DNA is made of protein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7B34-482E-4582-8DF4-62D2BEBAA9B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630D-9452-421C-9B96-C9F85F80AA7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 holds the instructions for making every protein and part of our bo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is important because Every Cell in the body has to be able to make a replacement for itself before it dies, or more so that we can grow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9600-B3D5-4073-99EC-EB6E2C008EFE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7995-19BC-4284-8192-385A8517082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07440" cy="143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k hydrogen bonds hold together the two strands of DNA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se bonds form between Adenine and Thymine, and Guanine, and Cytosi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AT GC?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enine and Thymine  form a double bond togeth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uanine and cytosine form a triple bon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F68-0AA8-47B9-8E55-D8D65F0A509B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99D1-837C-4DDA-90E4-BE03A4862F9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3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2113-FA21-4F4B-9B77-F3DA6F00550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5A27-6A10-40C2-A555-0BA074BE4CD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Picture 2" descr="http://www.accessexcellence.org/RC/VL/GG/images/dna_replicating.gif"/>
          <p:cNvPicPr/>
          <p:nvPr/>
        </p:nvPicPr>
        <p:blipFill>
          <a:blip r:embed="rId2"/>
          <a:stretch/>
        </p:blipFill>
        <p:spPr>
          <a:xfrm>
            <a:off x="129528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52280" y="1295280"/>
            <a:ext cx="79250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During  the </a:t>
            </a:r>
            <a:r>
              <a:rPr b="1" lang="en-US" sz="2600" spc="-1" strike="noStrike" u="sng">
                <a:solidFill>
                  <a:srgbClr val="0d0d0d"/>
                </a:solidFill>
                <a:uFillTx/>
                <a:latin typeface="Book Antiqua"/>
              </a:rPr>
              <a:t>Interphase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 stage of cell division (Mitosis) the chromosomes must be replicated so that the two new cells will contain identical DN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To start this proces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Hydrogen bonds  (</a:t>
            </a:r>
            <a:r>
              <a:rPr b="0" lang="en-US" sz="2600" spc="-1" strike="noStrike" u="sng">
                <a:solidFill>
                  <a:srgbClr val="0d0d0d"/>
                </a:solidFill>
                <a:uFillTx/>
                <a:latin typeface="Book Antiqua"/>
              </a:rPr>
              <a:t>weak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) unzipped,  one piece at a time free floating nucleotides are added onto each side of the DNA chain until the entire length is  replicated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Complementary strand of DNA is produced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DB09-EED4-474A-935E-D04F95916FBF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AB3E-33B1-4F7B-9D8A-98FC42DF9F5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0456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Book Antiqua"/>
              </a:rPr>
              <a:t>Replication fork… DNA polymer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Book Antiqua"/>
              </a:rPr>
              <a:t>cutting a ladder  in half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wo identical ladd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Book Antiqua"/>
              </a:rPr>
              <a:t>This strand is then a copy of the DNA. </a:t>
            </a:r>
            <a:r>
              <a:rPr b="0" lang="en-US" sz="2400" spc="-1" strike="noStrike">
                <a:solidFill>
                  <a:srgbClr val="0d0d0d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Book Antiqua"/>
              </a:rPr>
              <a:t>new cell when the old cell divides, and replicat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Book Antiqua"/>
              </a:rPr>
              <a:t>What happens if there is a mistake??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Date Placeholder 6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807F-E2A3-4CB1-9276-1367A945A1F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Slide Number Placeholder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F9A-A5A3-4A1A-B4F6-1389A4F214B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225360" y="603360"/>
            <a:ext cx="8394840" cy="1085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RODUCTIVE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ODY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3123720"/>
            <a:ext cx="40402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rm or Egg ce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this cell takes part in fertilization, all the cells will have the muta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7960" y="3047760"/>
            <a:ext cx="404172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 reproductive ce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e. Skin, muscle, bon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cell divides, the new cell will have the same mut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iology\Cracking the Code of Life.docx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Biology\Protein Synthesis and Words.docx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ctivity!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29B6-875F-4F50-91BB-7304604048F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701C-B816-4986-9001-657A8A87588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Picture 2" descr="http://www.fife-education.org.uk/scienceweb/Resources/Biology/Hot_Potatoes_Files/S1/Microscopes_Cells/graphics/my%20paintings/cheek.jpg"/>
          <p:cNvPicPr/>
          <p:nvPr/>
        </p:nvPicPr>
        <p:blipFill>
          <a:blip r:embed="rId4"/>
          <a:stretch/>
        </p:blipFill>
        <p:spPr>
          <a:xfrm>
            <a:off x="3971880" y="2438280"/>
            <a:ext cx="517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ntroduction to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 unit quiz, and identify the chapters for the wee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A512-54B3-4C60-865D-D13AE565D9B8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99DB-C0B0-487B-AD18-96A161FF878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57720" cy="5137200"/>
          </a:xfrm>
          <a:prstGeom prst="rect">
            <a:avLst/>
          </a:prstGeom>
          <a:ln w="0">
            <a:noFill/>
          </a:ln>
        </p:spPr>
      </p:pic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603360" y="96840"/>
            <a:ext cx="8321400" cy="1708200"/>
          </a:xfrm>
          <a:prstGeom prst="rect">
            <a:avLst/>
          </a:prstGeom>
          <a:ln w="0">
            <a:noFill/>
          </a:ln>
        </p:spPr>
      </p:pic>
      <p:sp>
        <p:nvSpPr>
          <p:cNvPr id="99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012-B83E-4A0E-B8CC-4B2E316006F8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C14-6668-4DDA-9F1F-82FDE3EF7FB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37335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tics unit part 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5486400" y="5334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itten by Kate Valentin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e-oxy-ribo-nucleic aci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struction book for lif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er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every cell of our bodies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ow does it tell our bodies what to do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t has a code that our cells can rea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does this look lik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structions are written in a chain of nitrogenous bases that are twisted  shape is  called a Double Helix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ke a twisted zipp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D4F5-7035-469C-AA66-8072B3248CB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CF0-78C6-49FC-ADB7-E74CA60E938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alind Frankl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-Ray Crystallograph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dn’t receive any credit fo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her discovery until afte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eath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son and Cri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ver did experiments but did a lot of research and used data from others they realized the structure (1953) was a double helix and won a Nobel prize(196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670-E3C6-43CC-8252-EB4514135F4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EA8-F62A-4F5F-8858-A29D50045DE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://37days.typepad.com/37days/images/2008/03/02/franklin20dna20photo.jpg"/>
          <p:cNvPicPr/>
          <p:nvPr/>
        </p:nvPicPr>
        <p:blipFill>
          <a:blip r:embed="rId2"/>
          <a:stretch/>
        </p:blipFill>
        <p:spPr>
          <a:xfrm>
            <a:off x="5486400" y="10666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298440" y="139680"/>
            <a:ext cx="8394840" cy="116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8080" cy="502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228600" y="1455840"/>
            <a:ext cx="3984480" cy="5402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2286000" y="199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ouble Helix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378000" y="603360"/>
            <a:ext cx="8242200" cy="107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0880" y="2133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is made of repeating subunit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nucleoti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3 par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mple sugar (deoxyribos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hosphate group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Nitrogenous b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181480" y="3524400"/>
            <a:ext cx="3962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4 possible typ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enine (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uanine (G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tosine (C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ymine (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5238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always pairs with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always pairs with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28600" y="3505320"/>
            <a:ext cx="739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DNA strand is made of letters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TCCGTAATGAGCCTCG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se letters make “words”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TC  CGT  AAT  GAG  CCT CG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se words make “sentences”.  These sentences are called genes. Genes tell the cell to make other molecules called proteins. Proteins enable the cell to perform special functions. (ie: to make hearing possibl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is the blueprint for lif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tells our bodies how to build new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lueprint is different for all living things, but made of the same pie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ame letters words and sentences are in all of 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de to build a eye in us is almost identical to the code to build the eye of a dog, or mouse, or even snake, or insec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1F7B-D145-4A52-A9EC-4A4555ED7B5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64C2-5597-4512-8821-33F36B17315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43:30Z</dcterms:created>
  <dc:creator>Registered User</dc:creator>
  <dc:description/>
  <dc:language>en-US</dc:language>
  <cp:lastModifiedBy>Registered User</cp:lastModifiedBy>
  <dcterms:modified xsi:type="dcterms:W3CDTF">2009-01-27T13:20:51Z</dcterms:modified>
  <cp:revision>159</cp:revision>
  <dc:subject/>
  <dc:title>Heredity and Inheritance</dc:title>
</cp:coreProperties>
</file>